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t">
            <a:noAutofit/>
          </a:bodyPr>
          <a:p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400D-D4F6-46DF-87B4-6209DEE36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864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516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864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516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3864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516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3864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516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"/>
            <p:cNvSpPr/>
            <p:nvPr/>
          </p:nvSpPr>
          <p:spPr>
            <a:xfrm>
              <a:off x="228600" y="282600"/>
              <a:ext cx="8610480" cy="61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1"/>
          <p:cNvSpPr/>
          <p:nvPr/>
        </p:nvSpPr>
        <p:spPr>
          <a:xfrm>
            <a:off x="533520" y="63244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606960" y="6477120"/>
            <a:ext cx="221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newable Energy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6"/>
          <p:cNvSpPr/>
          <p:nvPr/>
        </p:nvSpPr>
        <p:spPr>
          <a:xfrm>
            <a:off x="7346520" y="64771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368A-ED81-4D45-A2CE-00C283815E9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30">
            <a:hlinkClick r:id="" action="ppaction://hlinkshowjump?jump=nextslide"/>
          </p:cNvPr>
          <p:cNvSpPr/>
          <p:nvPr/>
        </p:nvSpPr>
        <p:spPr>
          <a:xfrm rot="5400000">
            <a:off x="8641440" y="65221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31">
            <a:hlinkClick r:id="" action="ppaction://hlinkshowjump?jump=previousslide"/>
          </p:cNvPr>
          <p:cNvSpPr/>
          <p:nvPr/>
        </p:nvSpPr>
        <p:spPr>
          <a:xfrm flipH="1" rot="16200000">
            <a:off x="8363520" y="65203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28600" y="282600"/>
              <a:ext cx="8610480" cy="61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Line 11"/>
          <p:cNvSpPr/>
          <p:nvPr/>
        </p:nvSpPr>
        <p:spPr>
          <a:xfrm>
            <a:off x="533520" y="63244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610920" y="647712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 Finance Mod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438600" y="64771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639D-4E74-4865-8F3B-A2DEF400BF3F}" type="datetime5">
              <a:rPr b="1" lang="en-US" sz="12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7346520" y="64771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A6FC-9766-438E-8F57-0CE88D46E62C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0">
            <a:hlinkClick r:id="" action="ppaction://hlinkshowjump?jump=nextslide"/>
          </p:cNvPr>
          <p:cNvSpPr/>
          <p:nvPr/>
        </p:nvSpPr>
        <p:spPr>
          <a:xfrm rot="5400000">
            <a:off x="8641440" y="65221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">
            <a:hlinkClick r:id="" action="ppaction://hlinkshowjump?jump=previousslide"/>
          </p:cNvPr>
          <p:cNvSpPr/>
          <p:nvPr/>
        </p:nvSpPr>
        <p:spPr>
          <a:xfrm flipH="1" rot="16200000">
            <a:off x="8363520" y="65203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Sources and Uses 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143000" y="1879560"/>
            <a:ext cx="6629400" cy="3586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2 – Key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up Flexible Investmen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ing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ng Investments at SPV and Consolidated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Cash Flow Waterfall for Consolidat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Flow Sweep in Consolidat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Summary P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089000" y="1295280"/>
            <a:ext cx="6966000" cy="487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2 – Investment Portfol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98360" y="1600200"/>
            <a:ext cx="8747280" cy="2570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2743200" y="4114800"/>
            <a:ext cx="3486240" cy="2295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Mechanical Points in Exercise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ommon start date for all projects in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DEX function with project code number to arrange inputs for individual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ifferent time period codes for eac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okup table with time period codes to set-up S-curve for each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3 – Building Model with Multiple Invest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502000"/>
            <a:ext cx="8229600" cy="27223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990720" y="5410080"/>
            <a:ext cx="38862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 the IRR from the abov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4 – Consolidation of Portfolio with Data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inputs as Exerci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Index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INDEX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TABLE with Index Code to Consolidate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Table in Conso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table with Project 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code numbers in different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the output desired on the column above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the individual rows for the consolidat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5 – Flexibl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ercise demonstrates how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model with flexible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 an analysis that does not begin at the first day of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-up begin and end dates in 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IRR’s with flexible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6 – Mixed Use Development Without Automatic Conso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s Principles of Mixed Us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S-Curves for individ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progress payments for individ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 to consolidate individu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 Estate Characteristics and Corporate versus Project Finance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state and Project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ecourse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Flow and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state and Corpor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of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ng of consolidate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Database 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371600" y="1198440"/>
            <a:ext cx="6324480" cy="505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for Development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8537400" cy="2023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Line for Different Projects in Mixed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62120" y="1944720"/>
            <a:ext cx="7619760" cy="357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7 – Portfolio with Data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nual Model that Illustrates how to Efficiently Consolidate Projects in Mixed Us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8 – A to Z Model with Scenario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Modeling Standards Illu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Illustrates timing issues for flexibility, accuracy checks, structuring with different parts and transparency with simple form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8 – Single Project Annu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xercise works through structuring and  financial issues associated with a singl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iming in Annu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Structuring 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and Financing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9 - Comprehensive Mixed Us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96840" y="2743200"/>
            <a:ext cx="8829720" cy="220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0 – Lease Roll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different risk profiles from alternative lease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cenario Analysis and Break-even analysis for market lease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monte carlo simulation to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s for Lease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811160" y="1905120"/>
            <a:ext cx="4748400" cy="336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s for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Lease Rates an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 Time After 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Lease Ex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ation Ratios in Real Estate versus Project Finance and Corporate Fin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E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ed Cash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st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Cod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for First 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is less than or equal to the expiration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for Id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is greater than the expiration date and less than or equal to the expiration date plus the idle ti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he A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for Spo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is greater than the expiration date plus the idl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Names and Code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formula is long for the code number can create range names for the 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formula together with rang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different range names for each component of the 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Function with Row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ode number as the basis for the CHOOS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s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for Idl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Spot Lease Rate After Idl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0a – Lease Roll with Monte Carlo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on Monthly Basis and Comput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EOMONTH to Comp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iration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Idl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Second 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Fraction of Month Off the 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DAYS360 Function divided by 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1: Cap Rate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ssumption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Rental Growth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recia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 Cap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Cap Rate for Different Cost of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ation Analysis in Corporate Finance, Project Finance and Real E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E Ratio, EV/EBITDA Ratio and Discounted Cash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Value is Major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IRR and Project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ver Project Life without Terminal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st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IRR and Project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Value with Cap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Analysis in Corporate Finance, Project Finance and Real Estate Fi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 Repayment from Ability to Re-finance and Credit Quality of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ebt/EBITDA, Debt/Equity and Intere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 Repayment Directly from Cash Flow without 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SCR, LLCR and PL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state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 Repayment from Cash Flow and Ability to Sell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ebt to Value with Cap Rate in 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x Lease Ro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06280" y="2590920"/>
            <a:ext cx="8404200" cy="200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1 – Cap Rate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384120" y="2209680"/>
            <a:ext cx="861552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of Cap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 Rate = Net Rental/Value of 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yield on a property = cap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ield = Net Rental/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Rental = Yield x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 and Cap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 Rate = Yield x Investment/Value of 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 Rate/Yield = Investment/Value of 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Yield = Cap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 the Investment = Value of 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DF30-E6DE-4EDC-BF14-EFCD21A6588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edbodme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937D-50B4-46BC-A5E4-638A16DBA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Model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73120" y="2406600"/>
            <a:ext cx="61977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y Monte Carlo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volatility for leas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time series function for leas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acro for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lternative distributions of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2: Residential Exerc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up Inputs with Different Milestones for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up Inputs for Different Payments (which can be the same as the milestone 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nt of Payment and Percent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dential Exercise - Mechan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up dates with common start date and evaluate dates on a monthly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EOMONTH function for milestone payments and for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nstruction period in months for the different project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switches for dates and for the construction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Inputs for Fina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3257640"/>
            <a:ext cx="8229600" cy="121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Inputs for Residential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582040" cy="221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ng and Cash Flow Waterf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-up Cash Account, Equity Account and Deb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 and MIN functions to evaluate what happens with positive and negative cash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3 - Finan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294920"/>
            <a:ext cx="7619760" cy="487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ing Financing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e of financing during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land loan and revolving credit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flow waterfall with cash sweeps on debt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flow sweep and allowance for divid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-even analysis from debt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 of Real Estate Exerci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 – A to Z Basic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Modeling Standards Illu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Illustrates timing issues for flexibility, accuracy checks, structuring with different parts and transparency with simple form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 -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s the measurement of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rcise 1 – Hotel Project Fin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s basic structure of project finance model for real e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ing the construction period and holding period separ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ing the financing of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-up inputs and operations sections in a structured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IRR and DSC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0:53:03Z</dcterms:created>
  <dc:creator>John Lennon</dc:creator>
  <dc:description/>
  <dc:language>en-US</dc:language>
  <cp:lastModifiedBy>Elvis Presley</cp:lastModifiedBy>
  <cp:lastPrinted>1999-07-15T13:20:36Z</cp:lastPrinted>
  <dcterms:modified xsi:type="dcterms:W3CDTF">2012-07-05T14:44:43Z</dcterms:modified>
  <cp:revision>471</cp:revision>
  <dc:subject/>
  <dc:title>Objectives of Project Finance Models</dc:title>
</cp:coreProperties>
</file>